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438-B007-4C9D-B61F-504E9F6D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D029-E65D-413A-9583-98CDF0B25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A7F7-D538-4618-94A8-6B57FC35E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08BE-2331-4551-9621-8C23A1A62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095C9-3C5D-4D43-A6FD-AA12A96E8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5F01-4804-4C93-B805-E8E75453B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8900-B9D6-42CA-8FE1-E57526199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C4AB-2442-4CC2-B2ED-0DDA348E7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5CC9-EC56-4F76-A200-F1B0F581C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367E-43C1-4C44-A89E-17D8CAFC6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36AE-F87D-42FE-A05E-986401241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14D9-E32B-408B-A8AA-4DE57C66E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5F1B-195A-457D-AAEB-6CC224F99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11E7-F81C-4714-B601-624A3D7BD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BD44-9898-451D-8785-FB7A1CE4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057400" y="3238560"/>
            <a:ext cx="6705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ER RAD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EYE OR SKI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DIRECT OR SCATTERED RAD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2870280" y="5079960"/>
            <a:ext cx="32256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Nd: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1064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2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75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2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765760" y="5054760"/>
            <a:ext cx="32259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er Type: Erbium Y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velength: 2940 nano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Duration: 5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lse Energy: 8 Jo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Average Power: 100 Wat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5257800" y="6553080"/>
            <a:ext cx="3809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/>
          </a:bodyPr>
          <a:p>
            <a:pPr marL="39600">
              <a:lnSpc>
                <a:spcPct val="5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ASS 4 LASER CONTROLLED ARE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Burt Wenger</cp:lastModifiedBy>
  <cp:lastPrinted>2018-08-15T15:18:09Z</cp:lastPrinted>
  <dcterms:modified xsi:type="dcterms:W3CDTF">2018-09-11T19:45:57Z</dcterms:modified>
  <cp:revision>37</cp:revision>
  <dc:subject/>
  <dc:title>PowerPoint Presentation</dc:title>
</cp:coreProperties>
</file>